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BEB-5AC4-4098-BDF9-6EE93933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9FC-7D40-4436-B233-089D82B3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E5C-C0B5-4469-A196-CCB07358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98A-9D9A-48D8-9A03-F1036DA7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54A-A548-4948-8CEA-F10C172A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F35-8F19-4931-90F5-1999EFBC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D4F-98B3-45EA-8584-8F6C0AA3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7DE-C3B2-40BD-9A6B-7B96C488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9E8-AD04-47DA-8E31-C5A0FDBD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6E7-5037-4928-9CB6-3616146F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206-E90A-416F-AE7A-67C75B1C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F5FE-A16C-4DD1-9E82-70644F01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5883-9AE9-4B84-AC69-082687F16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 Unicode MS"/>
              </a:rPr>
              <a:t>Los changu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2803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 Unicode MS"/>
              </a:rPr>
              <a:t>Dicen que los changos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 Unicode MS"/>
              </a:rPr>
              <a:t>no usan sombrero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 Unicode MS"/>
              </a:rPr>
              <a:t>por que los changuitos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 Unicode MS"/>
              </a:rPr>
              <a:t>les hacen aguj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cen que los chango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usan corbata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r que los changuito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s pisan con las pa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cen que los changos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usan camisas.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rque al caminar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os changuitos se las pis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cen que los changos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usan pantalone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r que los changuito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stán muy petac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cen que los chango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usan zapatos.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r que los changuito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inan como pa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cen que los changos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usan calcetine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r que los changuitos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os usan de pat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cen que los chango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usan calzoncillos.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r que los changuito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os dejan amaril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¡Que bien que les viene,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que bien que les va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que viva la vida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 ja ,ja ,ja ,j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0:56:50Z</dcterms:created>
  <dc:creator>hp</dc:creator>
  <dc:description/>
  <dc:language>en-US</dc:language>
  <cp:lastModifiedBy>Usuario</cp:lastModifiedBy>
  <dcterms:modified xsi:type="dcterms:W3CDTF">2008-03-04T17:30:12Z</dcterms:modified>
  <cp:revision>4</cp:revision>
  <dc:subject/>
  <dc:title>Los changuitos</dc:title>
</cp:coreProperties>
</file>